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A408-EE37-476D-90A2-4100B1A1B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7103-CB27-4691-92C1-B063270E5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6D8B02-261B-41EA-AF8D-F9AEF9618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714A5B-FF46-4BFB-B858-4E849DAB6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BFAA2C-2624-4904-AEB2-A46EA829C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9E6978-6640-4706-802D-C8CFE3575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DB0731-B54A-4670-AB11-D092AD129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1A8A78-F22D-469B-80D1-E72AF5FB4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093A34-0365-4BB7-9FD3-721479C3E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1E2384-4E2E-43AD-830A-B7076C13A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2F6F4C-DABB-45B9-BB5A-862A429B8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C98262-2561-4E73-B8DD-8838BB542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4E6F-09C7-4E92-AD29-FE96D5E82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07FFE9-A434-4A29-A9FD-4412FC52B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B90FAE-5F3D-4711-A62B-695B7F353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98F799-AE61-425D-A954-D279894FC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18DF88-4054-44BA-9B04-A3778893D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9375BF-D70F-4A6C-AA32-FF24E330F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AD5888-C5DB-417F-97F5-33369D5C5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1B7420-0600-43AC-BEC8-45EAF6006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C704A3-6FD7-4C54-91DD-355BA6C70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427E16-C05B-492F-9B1E-F74CF8100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7B1605-C941-47A9-92BE-227BF9A55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8623-464C-4050-8173-4E314547E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AE3F93-0C91-4772-A5AF-F0C9A3B2D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F57703-B224-464B-8823-E031CAE80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78220A-6094-4A46-ABE7-CAE2881A1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AFA634-8131-49CD-B146-6C01FB761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D7601F-4A00-4A26-884F-DA84DC214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5C1D56-DD4E-4D66-BC97-6E0B73215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87C8FF-E1CC-4DCC-A7C7-23FF44EB0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01EC2F-A451-4679-A082-3752D715F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D5E444-888C-4618-9947-92158A683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12EDC4-7DEE-48E7-A0FF-736D70741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495CC-66A4-4628-838F-743332859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E21E99-ED78-4D98-A0BE-9092B03F7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7E324A-8C9B-4781-B16D-E85142BB9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B62E85-E3FC-424F-9599-7B1E8F03E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B6CFB6-46DF-475E-89CE-B99EA8FCF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9BE823-F8C7-4557-B15C-63299BBF7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67955B-B853-420A-A787-8B3B4AD79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966487-722F-43BB-B107-FAA93BCC2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5F732D-E71F-4616-8DE6-886D2F03C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AEB5D1-0BFF-4536-8BFA-EE7793A07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FF4F0C-C262-477F-B079-5D23CD2E4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244C9-1D68-44BF-80BA-740AFCBF1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04C415-E864-4B98-B547-392B48E2D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0AFCA3-93A8-43B5-A41E-932DDA1AB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4B90D1-B264-4F63-9ED6-E83DC9505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3D7CE9-4852-44DD-9B97-DC44DA673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43A9A4-06F9-45D8-B183-B02CCFDB1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E8833-68FF-4BA0-87EA-09DD7518E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44857-F653-436C-8E65-A83AFEEFA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0F0BD-7764-4503-959C-CE461F83F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54E68-DB80-4BA5-BF78-01868F856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23E80-AE81-4FA5-AF13-9B9408C24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F366-9EC4-4899-B071-36C2C441A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09C6C-1CE3-46BC-9CE8-862928F97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A233C-9FC8-4B62-9930-AAC3A8AEB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2FF53-9A9E-432F-9961-D1595B1D0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631D2-DB41-445C-870B-661CACA9F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9BC16-7DF6-4FD7-8A4A-BFEE780FD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DEEBB-A7AA-48A2-9098-67305F0D8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4443C-6A66-4F73-A7EF-8D13E565C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6BC9A-8984-4C4B-8F33-3228D4FF3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E1B42-2220-4180-975D-3D8DCFA13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3335A-A926-4311-BC19-A99FE3658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9C2F-D69B-4A82-8B0F-ECD5025CD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523EA-72B5-46A6-B699-8162A8D4D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847A1-0DA3-4F87-9A3B-B2E9FADE8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62EEA-27D9-4F9D-B5E5-6D2346AFB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E7D32-9BE6-4BE2-B8C8-36C2A0193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04304-5FD7-4A3E-B660-8EF4992F0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8D770-4123-405B-BDFD-04D483795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FE2A1-73FC-428C-A778-D6905151A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3CA00-1D8D-45EE-9BDD-B03B3136D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99219-1287-49D6-8478-AEE589131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F623B-B1E5-4138-B2AD-503E7A2CD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040B-929A-41E9-BFE2-BA37D9326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20A98-CB16-4A30-86F4-713FA7954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8E2EC-5862-415B-9553-CEA1CACB4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79716-194A-4507-A049-1E469D7A6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04B80-F55B-4BCC-9294-229BAD861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DB93A-3F30-4569-9EA5-D64EFA401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5DDB7-38E2-4008-AC53-CFF19A87D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85AD9C-564A-47E9-A962-0BF220AED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C47AB-4F26-4657-ADF1-719160077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2F236-5EE3-46A3-8158-25BC5D44E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5DC9B6-980A-4362-9432-89C42C1E6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1899-C156-472D-8BB1-7DF322B4C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42F674-3F25-4CCF-B563-90C5416AD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150DA4-A1DE-4AB5-9CD7-28A5E2C12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01E5D2-5D1A-4FF5-8FAA-0018A4C81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4E8A69-DB4E-4951-9FB3-829C5E41D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CD53B3-0A54-440B-98A7-69E431C5A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BBD047-69F7-4258-AA3F-6333D3CC1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AC4ACA-7E67-4D7B-B6C5-E54553AAB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0FC7EC-BCC9-43E0-9301-913D2C7DA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BAF594-E5FE-4733-99A5-12CACE14A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68702A-5CB6-4E91-9844-B306445B6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9CE7-6637-4EC9-9D9B-01C2AA0ED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A8451C-87F7-487C-A762-E57239B9F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6EC324-B465-47BB-A63D-F8B80469B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457224-38D3-4396-94AC-C09753010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671986-94C9-40C1-812C-F6AEFA783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6C3CBB-B0AC-40E9-8E8C-D8DE6A11D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2FE2A7-FAEC-48F9-AB40-286653A06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FA1589-22A7-48BB-8DC6-3540A100B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FB0FE8-352D-4694-BFD0-A8B3923E3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4FBB14-87ED-4880-8EA5-329AAE029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DB34A7-B328-4354-89C1-9448C3EDD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5FB0-62B5-4E8B-9133-6B6C871C3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783CE1-3F6F-4E61-B75A-5C1064DC5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E5818F-8C5F-405F-8311-12D836498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CC5314-4619-4DDB-ABC2-683BE900E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2CD495-C285-4E11-A370-CFD14E57C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43D3B6-82DE-4FC7-AEDC-148E40211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BF793B-4FD7-4926-BC7E-593B83B3F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6A7AE8-2470-4EFE-BE27-473CC0AC0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3DF23D-153F-4963-91B1-35895222B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56BC0C-D705-4402-8CF4-888379878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782BF6-0968-4117-8B60-B1286BD94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A128-C1F3-4065-8624-7C2D1C6CC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97D2CE-2F55-4B3F-A426-5729AD52D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AC68BC-B443-41C7-A83D-CAFD113A7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D29557-D533-4EB4-BFB5-0D8484BF7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069C81-5778-41A3-80C3-5BC42E2CA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3FE080-4AB2-4B01-97F3-881112A60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9BEB91-2528-44CE-924C-95AADB8FA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6E1310-3B02-4D11-BBD3-5386D68C7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04E635-3BE8-4653-9A7C-097962D52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A805DA-B9D8-4453-A4F7-7D2FE2175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258744-4E27-469E-9EF8-E90D3E128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9E1F-A6F6-415C-97B6-CCCE9C33D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1B079F-C5F2-4EF9-A160-B50F7EC90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1DE47E-A20A-4B46-9D9A-F6CCB3E70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D9CC91-30B6-4BDB-A11A-26F5A9E09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3624AE-3752-437B-A892-AB2897A1F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836153-69A8-46D2-8FF1-44DAD1289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A180D7-DC97-4954-8A5D-4CE746F4B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DB1B0D-1A9F-4735-A0B2-8C5FE06AB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66CFB8-FFCD-4D4A-AFC3-F839F36AA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2717EB-B816-4AB8-B071-BAE891DD3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202869-20C2-40BF-8B6A-4B2129498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D328A-20ED-446D-8FDE-A711EE658A47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Birbaşa Birləşdirici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Düzbucaqlı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Düzbucaqlı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Düzbucaqlı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Düzbucaqlı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Düzbucaqlı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Düzbucaqlı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Düzbucaqlı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Düzbucaqlı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A19F1-C262-4E3B-8B59-2FDE94B41A8C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83FF0-0D71-464B-A916-9E76FB1A8390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Düzbucaqlı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Düzbucaqlı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Düzbucaqlı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Düzbucaqlı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Düzbucaqlı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Düzbucaqlı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Birbaşa Birləşdirici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C5F95-D4AD-4E36-962D-8F4599762AA1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Düzbucaqlı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Düzbucaqlı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Düzbucaqlı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Düzbucaqlı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Düzbucaqlı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Birbaşa Birləşdirici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Düzbucaqlı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37930-685F-4157-83E7-B91626EA2517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7E769-B7F4-438B-89CB-23E6EAD34D05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Düzbucaqlı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Düzbucaqlı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Düzbucaqlı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Düzbucaqlı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Düzbucaqlı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Düzbucaqlı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üzbucaqlı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Düzbucaqlı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Birbaşa Birləşdirici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B1B0B-EAED-4C1E-B48C-ACEAD6A18E67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Birbaşa Birləşdirici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17450-388D-4A7D-B25E-EA830860E6CC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Birbaşa Birləşdirici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Düzbucaqlı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Düzbucaqlı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Düzbucaqlı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Düzbucaqlı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Düzbucaqlı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Düzbucaqlı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Birbaşa Birləşdirici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Düzbucaqlı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EF232-0C44-4080-BC3E-B325A9E081F2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B06D8-8C8A-4AD5-96C9-5869E6C6B364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Düzbucaqlı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Düzbucaqlı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Düzbucaqlı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Düzbucaqlı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Düzbucaqlı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Düzbucaqlı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310B6-2573-48D0-82F1-432BCE8C1715}" type="slidenum">
              <a:rPr b="0" lang="az-Latn-AZ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Düzbucaqlı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Düzbucaqlı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Düzbucaqlı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Düzbucaqlı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Düzbucaqlı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Düzbucaqlı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Düzbucaqlı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Birbaşa Birləşdirici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Düzbucaqlı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62ACB-47C8-4C87-8C97-A09D22D62CB8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56760" y="3286080"/>
            <a:ext cx="8358120" cy="121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00000"/>
                </a:solidFill>
                <a:latin typeface="Georgia"/>
              </a:rPr>
              <a:t>The Central Eurasian Region in the Contemporary Architecture of the World Monetary and Financial System</a:t>
            </a:r>
            <a:endParaRPr b="0" lang="en-US" sz="21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0" name="Mətn Qutusu 5"/>
          <p:cNvSpPr/>
          <p:nvPr/>
        </p:nvSpPr>
        <p:spPr>
          <a:xfrm>
            <a:off x="1143000" y="571680"/>
            <a:ext cx="6858000" cy="20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Georgia"/>
              </a:rPr>
              <a:t>INTER-REGONAL BANKING COOPERATION: </a:t>
            </a:r>
            <a:br>
              <a:rPr sz="1800"/>
            </a:br>
            <a:r>
              <a:rPr b="1" lang="en-GB" sz="1800" spc="-1" strike="noStrike">
                <a:solidFill>
                  <a:srgbClr val="002060"/>
                </a:solidFill>
                <a:latin typeface="Georgia"/>
              </a:rPr>
              <a:t>SOLID FINANCIAL FU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Georgia"/>
              </a:rPr>
              <a:t>INTERNATIONAL CONFERE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Georgia"/>
              </a:rPr>
              <a:t>MAY 27, 2010, BAK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5"/>
          <p:cNvSpPr/>
          <p:nvPr/>
        </p:nvSpPr>
        <p:spPr>
          <a:xfrm>
            <a:off x="4214880" y="4857840"/>
            <a:ext cx="45622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ELDAR ISMAIL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ZERBAIJAN BANKS ASSO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01320" y="35712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Georgia"/>
              </a:rPr>
              <a:t>Slide 1. Structure of Central Eurasia’s </a:t>
            </a:r>
            <a:br>
              <a:rPr sz="2400"/>
            </a:br>
            <a:r>
              <a:rPr b="1" lang="en-GB" sz="2400" spc="-1" strike="noStrike">
                <a:solidFill>
                  <a:srgbClr val="000066"/>
                </a:solidFill>
                <a:latin typeface="Georgia"/>
              </a:rPr>
              <a:t>Geopolitical Expanse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73" name="Picture 3" descr=""/>
          <p:cNvPicPr/>
          <p:nvPr/>
        </p:nvPicPr>
        <p:blipFill>
          <a:blip r:embed="rId1"/>
          <a:srcRect l="2632" t="18233" r="2632" b="3916"/>
          <a:stretch/>
        </p:blipFill>
        <p:spPr>
          <a:xfrm>
            <a:off x="492120" y="2000160"/>
            <a:ext cx="815184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4" name="Picture 4" descr=""/>
          <p:cNvPicPr/>
          <p:nvPr/>
        </p:nvPicPr>
        <p:blipFill>
          <a:blip r:embed="rId1"/>
          <a:stretch/>
        </p:blipFill>
        <p:spPr>
          <a:xfrm>
            <a:off x="428760" y="1714680"/>
            <a:ext cx="8308800" cy="4500360"/>
          </a:xfrm>
          <a:prstGeom prst="rect">
            <a:avLst/>
          </a:prstGeom>
          <a:ln w="0">
            <a:noFill/>
          </a:ln>
        </p:spPr>
      </p:pic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285840" y="31284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Slide 2. The CEA Countries in the Global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Monetary Expanse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8858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Latn-AZ" sz="2400" spc="-1" strike="noStrike">
                <a:solidFill>
                  <a:srgbClr val="000066"/>
                </a:solidFill>
                <a:latin typeface="Georgia"/>
              </a:rPr>
              <a:t>Slide 4.</a:t>
            </a:r>
            <a:r>
              <a:rPr b="1" lang="en-GB" sz="2400" spc="-1" strike="noStrike">
                <a:solidFill>
                  <a:srgbClr val="000066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Main Indices of CEA, World and Regional Nations and Associations (2008, %)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graphicFrame>
        <p:nvGraphicFramePr>
          <p:cNvPr id="677" name=""/>
          <p:cNvGraphicFramePr/>
          <p:nvPr/>
        </p:nvGraphicFramePr>
        <p:xfrm>
          <a:off x="1035000" y="1643040"/>
          <a:ext cx="7323120" cy="4361040"/>
        </p:xfrm>
        <a:graphic>
          <a:graphicData uri="http://schemas.openxmlformats.org/drawingml/2006/table">
            <a:tbl>
              <a:tblPr/>
              <a:tblGrid>
                <a:gridCol w="2190960"/>
                <a:gridCol w="1852560"/>
                <a:gridCol w="1736640"/>
                <a:gridCol w="1542960"/>
              </a:tblGrid>
              <a:tr h="277920"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gion</a:t>
                      </a: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u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rrit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pul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DP </a:t>
                      </a: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PP</a:t>
                      </a: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 gridSpan="4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a1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3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6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39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U</a:t>
                      </a: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2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4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8920">
                <a:tc gridSpan="4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a1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ap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9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640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r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2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5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E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7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8920">
                <a:tc gridSpan="4"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a1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8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22040">
                <a:tc gridSpan="4"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a1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r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urke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8920">
                <a:tc gridSpan="4"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a1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0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5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kist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8920">
                <a:tc gridSpan="4"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a1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260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ddle E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1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8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01320" y="31284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Slide 4. Main Trade Partners of the CEA Countries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(2008, %)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79" name="Picture 2" descr=""/>
          <p:cNvPicPr/>
          <p:nvPr/>
        </p:nvPicPr>
        <p:blipFill>
          <a:blip r:embed="rId1"/>
          <a:stretch/>
        </p:blipFill>
        <p:spPr>
          <a:xfrm>
            <a:off x="604800" y="1643040"/>
            <a:ext cx="7934400" cy="45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01320" y="38412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Georgia"/>
              </a:rPr>
              <a:t>Slide 5. </a:t>
            </a: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Main West-East and North-South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Currency Axes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81" name="Picture 2" descr=""/>
          <p:cNvPicPr/>
          <p:nvPr/>
        </p:nvPicPr>
        <p:blipFill>
          <a:blip r:embed="rId1"/>
          <a:stretch/>
        </p:blipFill>
        <p:spPr>
          <a:xfrm>
            <a:off x="1393920" y="1606680"/>
            <a:ext cx="63561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5T14:34:54Z</dcterms:created>
  <dc:creator>ABA-BBM</dc:creator>
  <dc:description/>
  <dc:language>en-US</dc:language>
  <cp:lastModifiedBy>ABA-BBM</cp:lastModifiedBy>
  <dcterms:modified xsi:type="dcterms:W3CDTF">2010-05-26T13:27:21Z</dcterms:modified>
  <cp:revision>35</cp:revision>
  <dc:subject/>
  <dc:title>Slayd 1</dc:title>
</cp:coreProperties>
</file>